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A21-7A7A-4065-91C2-B3EADF10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DBA-E1F2-4B6D-B65B-C0EA0788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659-8FE8-41E0-BE65-CCA1D766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9C3-C1A1-410C-80C9-84D5ACFF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9D-5F10-4042-8911-531514B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6F3-4970-4ECA-8FE2-0FB1BB2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118-EFF7-4DFD-B763-E33E482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A8D-A797-4C72-B8D7-40BEC88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EA2-D226-4AF6-A106-F67C48A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313-D00A-4D4E-AF3D-EC88598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86C-1C14-4FF2-9AAC-4443D90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43D-5B13-4FD5-95C7-C858163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D8FC-DECC-438B-A2F9-17343330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828960"/>
            <a:ext cx="15224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plus importante ligne qui divise le nord et le sud s’appelle l’Équateur. Cette ligne imaginaire fait le tour de la terre et on l’appelle aussi « Latitude 0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D’autres lignes peuvent être tracées d’est en ouest, parallèles à l’équ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ous les degrés (points) au nord de l’équateur ont une latitude nord et tous les points au sud, latitude s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Il y a 180 la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Aucun point sur la terre ne peut avoir une latitude supérieure à 90 deg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a latitude du pôle nord est 90 degrés de latitude nord.  Quelle est la latitude du pôle s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Un degré de latitude équivaut environ à113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1850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long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longitudes sont aussi appelés « les méridiens ». Ces lignes joignent les 2 pôles.  Les méridiens ne sont pas parallèles parce qu’ils se rejoignent à 2 points (le pôle nord et le pôle sud). Le méridien qui passe à Greenwich (Angleterre), est le méridien 0. Les longitudes et les latitudes forment un quadrillag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s longitudes et les la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longitudes et les latitudes aident à trouver les endroits sur la terre. Les longitudes ne sont pas parallèles. Il y a 360 méridiens (longitudes).  Ils sont numérotés de 0-180 à l’Est de Greenwich et 0-180 à l’Ouest de Greenwi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19920" y="4656240"/>
            <a:ext cx="20034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54:07Z</dcterms:created>
  <dc:creator>nbdoe</dc:creator>
  <dc:description/>
  <dc:language>en-US</dc:language>
  <cp:lastModifiedBy>nbdoe</cp:lastModifiedBy>
  <dcterms:modified xsi:type="dcterms:W3CDTF">2008-11-09T22:34:05Z</dcterms:modified>
  <cp:revision>6</cp:revision>
  <dc:subject/>
  <dc:title>Les Latitudes</dc:title>
</cp:coreProperties>
</file>